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  <p:sldId id="416" r:id="rId174"/>
    <p:sldId id="417" r:id="rId175"/>
    <p:sldId id="418" r:id="rId176"/>
    <p:sldId id="419" r:id="rId177"/>
    <p:sldId id="420" r:id="rId178"/>
    <p:sldId id="421" r:id="rId179"/>
    <p:sldId id="422" r:id="rId180"/>
    <p:sldId id="423" r:id="rId181"/>
    <p:sldId id="424" r:id="rId182"/>
    <p:sldId id="425" r:id="rId183"/>
    <p:sldId id="426" r:id="rId184"/>
    <p:sldId id="427" r:id="rId185"/>
    <p:sldId id="428" r:id="rId186"/>
    <p:sldId id="429" r:id="rId187"/>
    <p:sldId id="430" r:id="rId188"/>
    <p:sldId id="431" r:id="rId189"/>
    <p:sldId id="432" r:id="rId190"/>
    <p:sldId id="433" r:id="rId191"/>
    <p:sldId id="434" r:id="rId192"/>
    <p:sldId id="435" r:id="rId193"/>
    <p:sldId id="436" r:id="rId194"/>
    <p:sldId id="437" r:id="rId195"/>
    <p:sldId id="438" r:id="rId196"/>
    <p:sldId id="439" r:id="rId197"/>
    <p:sldId id="440" r:id="rId198"/>
    <p:sldId id="441" r:id="rId199"/>
    <p:sldId id="442" r:id="rId200"/>
    <p:sldId id="443" r:id="rId201"/>
    <p:sldId id="444" r:id="rId202"/>
    <p:sldId id="445" r:id="rId203"/>
    <p:sldId id="446" r:id="rId204"/>
    <p:sldId id="447" r:id="rId205"/>
    <p:sldId id="448" r:id="rId206"/>
    <p:sldId id="449" r:id="rId207"/>
    <p:sldId id="450" r:id="rId208"/>
    <p:sldId id="451" r:id="rId209"/>
    <p:sldId id="452" r:id="rId210"/>
    <p:sldId id="453" r:id="rId211"/>
    <p:sldId id="454" r:id="rId212"/>
    <p:sldId id="455" r:id="rId213"/>
    <p:sldId id="456" r:id="rId214"/>
    <p:sldId id="457" r:id="rId215"/>
    <p:sldId id="458" r:id="rId216"/>
    <p:sldId id="459" r:id="rId217"/>
    <p:sldId id="460" r:id="rId218"/>
    <p:sldId id="461" r:id="rId219"/>
    <p:sldId id="462" r:id="rId220"/>
    <p:sldId id="463" r:id="rId221"/>
    <p:sldId id="464" r:id="rId222"/>
    <p:sldId id="465" r:id="rId223"/>
    <p:sldId id="466" r:id="rId224"/>
    <p:sldId id="467" r:id="rId225"/>
    <p:sldId id="468" r:id="rId226"/>
    <p:sldId id="469" r:id="rId227"/>
    <p:sldId id="470" r:id="rId228"/>
    <p:sldId id="471" r:id="rId229"/>
    <p:sldId id="472" r:id="rId230"/>
    <p:sldId id="473" r:id="rId231"/>
    <p:sldId id="474" r:id="rId232"/>
    <p:sldId id="475" r:id="rId233"/>
    <p:sldId id="476" r:id="rId234"/>
    <p:sldId id="477" r:id="rId235"/>
    <p:sldId id="478" r:id="rId236"/>
    <p:sldId id="479" r:id="rId237"/>
    <p:sldId id="480" r:id="rId238"/>
    <p:sldId id="481" r:id="rId239"/>
    <p:sldId id="482" r:id="rId240"/>
    <p:sldId id="483" r:id="rId241"/>
    <p:sldId id="484" r:id="rId242"/>
    <p:sldId id="485" r:id="rId243"/>
    <p:sldId id="486" r:id="rId244"/>
    <p:sldId id="487" r:id="rId245"/>
    <p:sldId id="488" r:id="rId246"/>
    <p:sldId id="489" r:id="rId247"/>
    <p:sldId id="490" r:id="rId248"/>
    <p:sldId id="491" r:id="rId249"/>
    <p:sldId id="492" r:id="rId250"/>
    <p:sldId id="493" r:id="rId251"/>
    <p:sldId id="494" r:id="rId252"/>
    <p:sldId id="495" r:id="rId253"/>
    <p:sldId id="496" r:id="rId254"/>
    <p:sldId id="497" r:id="rId255"/>
    <p:sldId id="498" r:id="rId256"/>
    <p:sldId id="499" r:id="rId257"/>
    <p:sldId id="500" r:id="rId258"/>
    <p:sldId id="501" r:id="rId259"/>
    <p:sldId id="502" r:id="rId260"/>
    <p:sldId id="503" r:id="rId261"/>
    <p:sldId id="504" r:id="rId262"/>
    <p:sldId id="505" r:id="rId263"/>
    <p:sldId id="506" r:id="rId264"/>
    <p:sldId id="507" r:id="rId265"/>
    <p:sldId id="508" r:id="rId266"/>
    <p:sldId id="509" r:id="rId267"/>
    <p:sldId id="510" r:id="rId268"/>
    <p:sldId id="511" r:id="rId269"/>
    <p:sldId id="512" r:id="rId270"/>
    <p:sldId id="513" r:id="rId271"/>
    <p:sldId id="514" r:id="rId272"/>
    <p:sldId id="515" r:id="rId273"/>
    <p:sldId id="516" r:id="rId274"/>
    <p:sldId id="517" r:id="rId275"/>
    <p:sldId id="518" r:id="rId276"/>
    <p:sldId id="519" r:id="rId277"/>
    <p:sldId id="520" r:id="rId278"/>
    <p:sldId id="521" r:id="rId279"/>
    <p:sldId id="522" r:id="rId280"/>
    <p:sldId id="523" r:id="rId281"/>
    <p:sldId id="524" r:id="rId282"/>
    <p:sldId id="525" r:id="rId283"/>
    <p:sldId id="526" r:id="rId284"/>
    <p:sldId id="527" r:id="rId285"/>
    <p:sldId id="528" r:id="rId286"/>
    <p:sldId id="529" r:id="rId287"/>
    <p:sldId id="530" r:id="rId288"/>
    <p:sldId id="531" r:id="rId289"/>
    <p:sldId id="532" r:id="rId290"/>
    <p:sldId id="533" r:id="rId291"/>
    <p:sldId id="534" r:id="rId292"/>
    <p:sldId id="535" r:id="rId293"/>
    <p:sldId id="536" r:id="rId294"/>
    <p:sldId id="537" r:id="rId295"/>
    <p:sldId id="538" r:id="rId296"/>
    <p:sldId id="539" r:id="rId297"/>
    <p:sldId id="540" r:id="rId298"/>
    <p:sldId id="541" r:id="rId299"/>
    <p:sldId id="542" r:id="rId300"/>
    <p:sldId id="543" r:id="rId301"/>
    <p:sldId id="544" r:id="rId302"/>
    <p:sldId id="545" r:id="rId303"/>
    <p:sldId id="546" r:id="rId304"/>
    <p:sldId id="547" r:id="rId305"/>
    <p:sldId id="548" r:id="rId306"/>
    <p:sldId id="549" r:id="rId307"/>
    <p:sldId id="550" r:id="rId308"/>
    <p:sldId id="551" r:id="rId309"/>
    <p:sldId id="552" r:id="rId310"/>
    <p:sldId id="553" r:id="rId311"/>
    <p:sldId id="554" r:id="rId312"/>
    <p:sldId id="555" r:id="rId313"/>
    <p:sldId id="556" r:id="rId314"/>
    <p:sldId id="557" r:id="rId315"/>
    <p:sldId id="558" r:id="rId316"/>
    <p:sldId id="559" r:id="rId317"/>
    <p:sldId id="560" r:id="rId318"/>
    <p:sldId id="561" r:id="rId319"/>
    <p:sldId id="562" r:id="rId320"/>
    <p:sldId id="563" r:id="rId321"/>
    <p:sldId id="564" r:id="rId322"/>
    <p:sldId id="565" r:id="rId323"/>
    <p:sldId id="566" r:id="rId324"/>
    <p:sldId id="567" r:id="rId325"/>
    <p:sldId id="568" r:id="rId326"/>
    <p:sldId id="569" r:id="rId327"/>
    <p:sldId id="570" r:id="rId328"/>
    <p:sldId id="571" r:id="rId329"/>
    <p:sldId id="572" r:id="rId330"/>
    <p:sldId id="573" r:id="rId331"/>
    <p:sldId id="574" r:id="rId332"/>
    <p:sldId id="575" r:id="rId333"/>
    <p:sldId id="576" r:id="rId334"/>
    <p:sldId id="577" r:id="rId335"/>
    <p:sldId id="578" r:id="rId336"/>
    <p:sldId id="579" r:id="rId337"/>
    <p:sldId id="580" r:id="rId338"/>
    <p:sldId id="581" r:id="rId339"/>
    <p:sldId id="582" r:id="rId340"/>
    <p:sldId id="583" r:id="rId341"/>
    <p:sldId id="584" r:id="rId342"/>
    <p:sldId id="585" r:id="rId343"/>
    <p:sldId id="586" r:id="rId344"/>
    <p:sldId id="587" r:id="rId345"/>
    <p:sldId id="588" r:id="rId346"/>
    <p:sldId id="589" r:id="rId347"/>
    <p:sldId id="590" r:id="rId348"/>
    <p:sldId id="591" r:id="rId349"/>
    <p:sldId id="592" r:id="rId350"/>
    <p:sldId id="593" r:id="rId351"/>
    <p:sldId id="594" r:id="rId352"/>
    <p:sldId id="595" r:id="rId353"/>
    <p:sldId id="596" r:id="rId354"/>
    <p:sldId id="597" r:id="rId355"/>
    <p:sldId id="598" r:id="rId356"/>
    <p:sldId id="599" r:id="rId357"/>
    <p:sldId id="600" r:id="rId358"/>
    <p:sldId id="601" r:id="rId359"/>
    <p:sldId id="602" r:id="rId360"/>
    <p:sldId id="603" r:id="rId361"/>
    <p:sldId id="604" r:id="rId362"/>
    <p:sldId id="605" r:id="rId363"/>
    <p:sldId id="606" r:id="rId364"/>
    <p:sldId id="607" r:id="rId365"/>
    <p:sldId id="608" r:id="rId366"/>
    <p:sldId id="609" r:id="rId367"/>
    <p:sldId id="610" r:id="rId368"/>
    <p:sldId id="611" r:id="rId369"/>
    <p:sldId id="612" r:id="rId370"/>
    <p:sldId id="613" r:id="rId371"/>
    <p:sldId id="614" r:id="rId372"/>
    <p:sldId id="615" r:id="rId373"/>
    <p:sldId id="616" r:id="rId374"/>
    <p:sldId id="617" r:id="rId375"/>
    <p:sldId id="618" r:id="rId376"/>
    <p:sldId id="619" r:id="rId377"/>
    <p:sldId id="620" r:id="rId378"/>
    <p:sldId id="621" r:id="rId379"/>
    <p:sldId id="622" r:id="rId380"/>
    <p:sldId id="623" r:id="rId381"/>
    <p:sldId id="624" r:id="rId382"/>
    <p:sldId id="625" r:id="rId383"/>
    <p:sldId id="626" r:id="rId384"/>
    <p:sldId id="627" r:id="rId385"/>
    <p:sldId id="628" r:id="rId386"/>
    <p:sldId id="629" r:id="rId387"/>
    <p:sldId id="630" r:id="rId388"/>
    <p:sldId id="631" r:id="rId389"/>
    <p:sldId id="632" r:id="rId390"/>
    <p:sldId id="633" r:id="rId391"/>
    <p:sldId id="634" r:id="rId392"/>
    <p:sldId id="635" r:id="rId393"/>
    <p:sldId id="636" r:id="rId394"/>
    <p:sldId id="637" r:id="rId395"/>
    <p:sldId id="638" r:id="rId396"/>
    <p:sldId id="639" r:id="rId397"/>
    <p:sldId id="640" r:id="rId398"/>
    <p:sldId id="641" r:id="rId399"/>
    <p:sldId id="642" r:id="rId400"/>
    <p:sldId id="643" r:id="rId401"/>
    <p:sldId id="644" r:id="rId402"/>
    <p:sldId id="645" r:id="rId403"/>
    <p:sldId id="646" r:id="rId404"/>
    <p:sldId id="647" r:id="rId405"/>
    <p:sldId id="648" r:id="rId406"/>
    <p:sldId id="649" r:id="rId407"/>
    <p:sldId id="650" r:id="rId408"/>
    <p:sldId id="651" r:id="rId409"/>
    <p:sldId id="652" r:id="rId410"/>
    <p:sldId id="653" r:id="rId411"/>
    <p:sldId id="654" r:id="rId412"/>
    <p:sldId id="655" r:id="rId413"/>
    <p:sldId id="656" r:id="rId414"/>
    <p:sldId id="657" r:id="rId415"/>
    <p:sldId id="658" r:id="rId416"/>
    <p:sldId id="659" r:id="rId417"/>
    <p:sldId id="660" r:id="rId418"/>
    <p:sldId id="661" r:id="rId419"/>
    <p:sldId id="662" r:id="rId4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slide" Target="slides/slide161.xml"/><Relationship Id="rId175" Type="http://schemas.openxmlformats.org/officeDocument/2006/relationships/slide" Target="slides/slide162.xml"/><Relationship Id="rId176" Type="http://schemas.openxmlformats.org/officeDocument/2006/relationships/slide" Target="slides/slide163.xml"/><Relationship Id="rId177" Type="http://schemas.openxmlformats.org/officeDocument/2006/relationships/slide" Target="slides/slide164.xml"/><Relationship Id="rId178" Type="http://schemas.openxmlformats.org/officeDocument/2006/relationships/slide" Target="slides/slide165.xml"/><Relationship Id="rId179" Type="http://schemas.openxmlformats.org/officeDocument/2006/relationships/slide" Target="slides/slide166.xml"/><Relationship Id="rId180" Type="http://schemas.openxmlformats.org/officeDocument/2006/relationships/slide" Target="slides/slide167.xml"/><Relationship Id="rId181" Type="http://schemas.openxmlformats.org/officeDocument/2006/relationships/slide" Target="slides/slide168.xml"/><Relationship Id="rId182" Type="http://schemas.openxmlformats.org/officeDocument/2006/relationships/slide" Target="slides/slide169.xml"/><Relationship Id="rId183" Type="http://schemas.openxmlformats.org/officeDocument/2006/relationships/slide" Target="slides/slide170.xml"/><Relationship Id="rId184" Type="http://schemas.openxmlformats.org/officeDocument/2006/relationships/slide" Target="slides/slide171.xml"/><Relationship Id="rId185" Type="http://schemas.openxmlformats.org/officeDocument/2006/relationships/slide" Target="slides/slide172.xml"/><Relationship Id="rId186" Type="http://schemas.openxmlformats.org/officeDocument/2006/relationships/slide" Target="slides/slide173.xml"/><Relationship Id="rId187" Type="http://schemas.openxmlformats.org/officeDocument/2006/relationships/slide" Target="slides/slide174.xml"/><Relationship Id="rId188" Type="http://schemas.openxmlformats.org/officeDocument/2006/relationships/slide" Target="slides/slide175.xml"/><Relationship Id="rId189" Type="http://schemas.openxmlformats.org/officeDocument/2006/relationships/slide" Target="slides/slide176.xml"/><Relationship Id="rId190" Type="http://schemas.openxmlformats.org/officeDocument/2006/relationships/slide" Target="slides/slide177.xml"/><Relationship Id="rId191" Type="http://schemas.openxmlformats.org/officeDocument/2006/relationships/slide" Target="slides/slide178.xml"/><Relationship Id="rId192" Type="http://schemas.openxmlformats.org/officeDocument/2006/relationships/slide" Target="slides/slide179.xml"/><Relationship Id="rId193" Type="http://schemas.openxmlformats.org/officeDocument/2006/relationships/slide" Target="slides/slide180.xml"/><Relationship Id="rId194" Type="http://schemas.openxmlformats.org/officeDocument/2006/relationships/slide" Target="slides/slide181.xml"/><Relationship Id="rId195" Type="http://schemas.openxmlformats.org/officeDocument/2006/relationships/slide" Target="slides/slide182.xml"/><Relationship Id="rId196" Type="http://schemas.openxmlformats.org/officeDocument/2006/relationships/slide" Target="slides/slide183.xml"/><Relationship Id="rId197" Type="http://schemas.openxmlformats.org/officeDocument/2006/relationships/slide" Target="slides/slide184.xml"/><Relationship Id="rId198" Type="http://schemas.openxmlformats.org/officeDocument/2006/relationships/slide" Target="slides/slide185.xml"/><Relationship Id="rId199" Type="http://schemas.openxmlformats.org/officeDocument/2006/relationships/slide" Target="slides/slide186.xml"/><Relationship Id="rId200" Type="http://schemas.openxmlformats.org/officeDocument/2006/relationships/slide" Target="slides/slide187.xml"/><Relationship Id="rId201" Type="http://schemas.openxmlformats.org/officeDocument/2006/relationships/slide" Target="slides/slide188.xml"/><Relationship Id="rId202" Type="http://schemas.openxmlformats.org/officeDocument/2006/relationships/slide" Target="slides/slide189.xml"/><Relationship Id="rId203" Type="http://schemas.openxmlformats.org/officeDocument/2006/relationships/slide" Target="slides/slide190.xml"/><Relationship Id="rId204" Type="http://schemas.openxmlformats.org/officeDocument/2006/relationships/slide" Target="slides/slide191.xml"/><Relationship Id="rId205" Type="http://schemas.openxmlformats.org/officeDocument/2006/relationships/slide" Target="slides/slide192.xml"/><Relationship Id="rId206" Type="http://schemas.openxmlformats.org/officeDocument/2006/relationships/slide" Target="slides/slide193.xml"/><Relationship Id="rId207" Type="http://schemas.openxmlformats.org/officeDocument/2006/relationships/slide" Target="slides/slide194.xml"/><Relationship Id="rId208" Type="http://schemas.openxmlformats.org/officeDocument/2006/relationships/slide" Target="slides/slide195.xml"/><Relationship Id="rId209" Type="http://schemas.openxmlformats.org/officeDocument/2006/relationships/slide" Target="slides/slide196.xml"/><Relationship Id="rId210" Type="http://schemas.openxmlformats.org/officeDocument/2006/relationships/slide" Target="slides/slide197.xml"/><Relationship Id="rId211" Type="http://schemas.openxmlformats.org/officeDocument/2006/relationships/slide" Target="slides/slide198.xml"/><Relationship Id="rId212" Type="http://schemas.openxmlformats.org/officeDocument/2006/relationships/slide" Target="slides/slide199.xml"/><Relationship Id="rId213" Type="http://schemas.openxmlformats.org/officeDocument/2006/relationships/slide" Target="slides/slide200.xml"/><Relationship Id="rId214" Type="http://schemas.openxmlformats.org/officeDocument/2006/relationships/slide" Target="slides/slide201.xml"/><Relationship Id="rId215" Type="http://schemas.openxmlformats.org/officeDocument/2006/relationships/slide" Target="slides/slide202.xml"/><Relationship Id="rId216" Type="http://schemas.openxmlformats.org/officeDocument/2006/relationships/slide" Target="slides/slide203.xml"/><Relationship Id="rId217" Type="http://schemas.openxmlformats.org/officeDocument/2006/relationships/slide" Target="slides/slide204.xml"/><Relationship Id="rId218" Type="http://schemas.openxmlformats.org/officeDocument/2006/relationships/slide" Target="slides/slide205.xml"/><Relationship Id="rId219" Type="http://schemas.openxmlformats.org/officeDocument/2006/relationships/slide" Target="slides/slide206.xml"/><Relationship Id="rId220" Type="http://schemas.openxmlformats.org/officeDocument/2006/relationships/slide" Target="slides/slide207.xml"/><Relationship Id="rId221" Type="http://schemas.openxmlformats.org/officeDocument/2006/relationships/slide" Target="slides/slide208.xml"/><Relationship Id="rId222" Type="http://schemas.openxmlformats.org/officeDocument/2006/relationships/slide" Target="slides/slide209.xml"/><Relationship Id="rId223" Type="http://schemas.openxmlformats.org/officeDocument/2006/relationships/slide" Target="slides/slide210.xml"/><Relationship Id="rId224" Type="http://schemas.openxmlformats.org/officeDocument/2006/relationships/slide" Target="slides/slide211.xml"/><Relationship Id="rId225" Type="http://schemas.openxmlformats.org/officeDocument/2006/relationships/slide" Target="slides/slide212.xml"/><Relationship Id="rId226" Type="http://schemas.openxmlformats.org/officeDocument/2006/relationships/slide" Target="slides/slide213.xml"/><Relationship Id="rId227" Type="http://schemas.openxmlformats.org/officeDocument/2006/relationships/slide" Target="slides/slide214.xml"/><Relationship Id="rId228" Type="http://schemas.openxmlformats.org/officeDocument/2006/relationships/slide" Target="slides/slide215.xml"/><Relationship Id="rId229" Type="http://schemas.openxmlformats.org/officeDocument/2006/relationships/slide" Target="slides/slide216.xml"/><Relationship Id="rId230" Type="http://schemas.openxmlformats.org/officeDocument/2006/relationships/slide" Target="slides/slide217.xml"/><Relationship Id="rId231" Type="http://schemas.openxmlformats.org/officeDocument/2006/relationships/slide" Target="slides/slide218.xml"/><Relationship Id="rId232" Type="http://schemas.openxmlformats.org/officeDocument/2006/relationships/slide" Target="slides/slide219.xml"/><Relationship Id="rId233" Type="http://schemas.openxmlformats.org/officeDocument/2006/relationships/slide" Target="slides/slide220.xml"/><Relationship Id="rId234" Type="http://schemas.openxmlformats.org/officeDocument/2006/relationships/slide" Target="slides/slide221.xml"/><Relationship Id="rId235" Type="http://schemas.openxmlformats.org/officeDocument/2006/relationships/slide" Target="slides/slide222.xml"/><Relationship Id="rId236" Type="http://schemas.openxmlformats.org/officeDocument/2006/relationships/slide" Target="slides/slide223.xml"/><Relationship Id="rId237" Type="http://schemas.openxmlformats.org/officeDocument/2006/relationships/slide" Target="slides/slide224.xml"/><Relationship Id="rId238" Type="http://schemas.openxmlformats.org/officeDocument/2006/relationships/slide" Target="slides/slide225.xml"/><Relationship Id="rId239" Type="http://schemas.openxmlformats.org/officeDocument/2006/relationships/slide" Target="slides/slide226.xml"/><Relationship Id="rId240" Type="http://schemas.openxmlformats.org/officeDocument/2006/relationships/slide" Target="slides/slide227.xml"/><Relationship Id="rId241" Type="http://schemas.openxmlformats.org/officeDocument/2006/relationships/slide" Target="slides/slide228.xml"/><Relationship Id="rId242" Type="http://schemas.openxmlformats.org/officeDocument/2006/relationships/slide" Target="slides/slide229.xml"/><Relationship Id="rId243" Type="http://schemas.openxmlformats.org/officeDocument/2006/relationships/slide" Target="slides/slide230.xml"/><Relationship Id="rId244" Type="http://schemas.openxmlformats.org/officeDocument/2006/relationships/slide" Target="slides/slide231.xml"/><Relationship Id="rId245" Type="http://schemas.openxmlformats.org/officeDocument/2006/relationships/slide" Target="slides/slide232.xml"/><Relationship Id="rId246" Type="http://schemas.openxmlformats.org/officeDocument/2006/relationships/slide" Target="slides/slide233.xml"/><Relationship Id="rId247" Type="http://schemas.openxmlformats.org/officeDocument/2006/relationships/slide" Target="slides/slide234.xml"/><Relationship Id="rId248" Type="http://schemas.openxmlformats.org/officeDocument/2006/relationships/slide" Target="slides/slide235.xml"/><Relationship Id="rId249" Type="http://schemas.openxmlformats.org/officeDocument/2006/relationships/slide" Target="slides/slide236.xml"/><Relationship Id="rId250" Type="http://schemas.openxmlformats.org/officeDocument/2006/relationships/slide" Target="slides/slide237.xml"/><Relationship Id="rId251" Type="http://schemas.openxmlformats.org/officeDocument/2006/relationships/slide" Target="slides/slide238.xml"/><Relationship Id="rId252" Type="http://schemas.openxmlformats.org/officeDocument/2006/relationships/slide" Target="slides/slide239.xml"/><Relationship Id="rId253" Type="http://schemas.openxmlformats.org/officeDocument/2006/relationships/slide" Target="slides/slide240.xml"/><Relationship Id="rId254" Type="http://schemas.openxmlformats.org/officeDocument/2006/relationships/slide" Target="slides/slide241.xml"/><Relationship Id="rId255" Type="http://schemas.openxmlformats.org/officeDocument/2006/relationships/slide" Target="slides/slide242.xml"/><Relationship Id="rId256" Type="http://schemas.openxmlformats.org/officeDocument/2006/relationships/slide" Target="slides/slide243.xml"/><Relationship Id="rId257" Type="http://schemas.openxmlformats.org/officeDocument/2006/relationships/slide" Target="slides/slide244.xml"/><Relationship Id="rId258" Type="http://schemas.openxmlformats.org/officeDocument/2006/relationships/slide" Target="slides/slide245.xml"/><Relationship Id="rId259" Type="http://schemas.openxmlformats.org/officeDocument/2006/relationships/slide" Target="slides/slide246.xml"/><Relationship Id="rId260" Type="http://schemas.openxmlformats.org/officeDocument/2006/relationships/slide" Target="slides/slide247.xml"/><Relationship Id="rId261" Type="http://schemas.openxmlformats.org/officeDocument/2006/relationships/slide" Target="slides/slide248.xml"/><Relationship Id="rId262" Type="http://schemas.openxmlformats.org/officeDocument/2006/relationships/slide" Target="slides/slide249.xml"/><Relationship Id="rId263" Type="http://schemas.openxmlformats.org/officeDocument/2006/relationships/slide" Target="slides/slide250.xml"/><Relationship Id="rId264" Type="http://schemas.openxmlformats.org/officeDocument/2006/relationships/slide" Target="slides/slide251.xml"/><Relationship Id="rId265" Type="http://schemas.openxmlformats.org/officeDocument/2006/relationships/slide" Target="slides/slide252.xml"/><Relationship Id="rId266" Type="http://schemas.openxmlformats.org/officeDocument/2006/relationships/slide" Target="slides/slide253.xml"/><Relationship Id="rId267" Type="http://schemas.openxmlformats.org/officeDocument/2006/relationships/slide" Target="slides/slide254.xml"/><Relationship Id="rId268" Type="http://schemas.openxmlformats.org/officeDocument/2006/relationships/slide" Target="slides/slide255.xml"/><Relationship Id="rId269" Type="http://schemas.openxmlformats.org/officeDocument/2006/relationships/slide" Target="slides/slide256.xml"/><Relationship Id="rId270" Type="http://schemas.openxmlformats.org/officeDocument/2006/relationships/slide" Target="slides/slide257.xml"/><Relationship Id="rId271" Type="http://schemas.openxmlformats.org/officeDocument/2006/relationships/slide" Target="slides/slide258.xml"/><Relationship Id="rId272" Type="http://schemas.openxmlformats.org/officeDocument/2006/relationships/slide" Target="slides/slide259.xml"/><Relationship Id="rId273" Type="http://schemas.openxmlformats.org/officeDocument/2006/relationships/slide" Target="slides/slide260.xml"/><Relationship Id="rId274" Type="http://schemas.openxmlformats.org/officeDocument/2006/relationships/slide" Target="slides/slide261.xml"/><Relationship Id="rId275" Type="http://schemas.openxmlformats.org/officeDocument/2006/relationships/slide" Target="slides/slide262.xml"/><Relationship Id="rId276" Type="http://schemas.openxmlformats.org/officeDocument/2006/relationships/slide" Target="slides/slide263.xml"/><Relationship Id="rId277" Type="http://schemas.openxmlformats.org/officeDocument/2006/relationships/slide" Target="slides/slide264.xml"/><Relationship Id="rId278" Type="http://schemas.openxmlformats.org/officeDocument/2006/relationships/slide" Target="slides/slide265.xml"/><Relationship Id="rId279" Type="http://schemas.openxmlformats.org/officeDocument/2006/relationships/slide" Target="slides/slide266.xml"/><Relationship Id="rId280" Type="http://schemas.openxmlformats.org/officeDocument/2006/relationships/slide" Target="slides/slide267.xml"/><Relationship Id="rId281" Type="http://schemas.openxmlformats.org/officeDocument/2006/relationships/slide" Target="slides/slide268.xml"/><Relationship Id="rId282" Type="http://schemas.openxmlformats.org/officeDocument/2006/relationships/slide" Target="slides/slide269.xml"/><Relationship Id="rId283" Type="http://schemas.openxmlformats.org/officeDocument/2006/relationships/slide" Target="slides/slide270.xml"/><Relationship Id="rId284" Type="http://schemas.openxmlformats.org/officeDocument/2006/relationships/slide" Target="slides/slide271.xml"/><Relationship Id="rId285" Type="http://schemas.openxmlformats.org/officeDocument/2006/relationships/slide" Target="slides/slide272.xml"/><Relationship Id="rId286" Type="http://schemas.openxmlformats.org/officeDocument/2006/relationships/slide" Target="slides/slide273.xml"/><Relationship Id="rId287" Type="http://schemas.openxmlformats.org/officeDocument/2006/relationships/slide" Target="slides/slide274.xml"/><Relationship Id="rId288" Type="http://schemas.openxmlformats.org/officeDocument/2006/relationships/slide" Target="slides/slide275.xml"/><Relationship Id="rId289" Type="http://schemas.openxmlformats.org/officeDocument/2006/relationships/slide" Target="slides/slide276.xml"/><Relationship Id="rId290" Type="http://schemas.openxmlformats.org/officeDocument/2006/relationships/slide" Target="slides/slide277.xml"/><Relationship Id="rId291" Type="http://schemas.openxmlformats.org/officeDocument/2006/relationships/slide" Target="slides/slide278.xml"/><Relationship Id="rId292" Type="http://schemas.openxmlformats.org/officeDocument/2006/relationships/slide" Target="slides/slide279.xml"/><Relationship Id="rId293" Type="http://schemas.openxmlformats.org/officeDocument/2006/relationships/slide" Target="slides/slide280.xml"/><Relationship Id="rId294" Type="http://schemas.openxmlformats.org/officeDocument/2006/relationships/slide" Target="slides/slide281.xml"/><Relationship Id="rId295" Type="http://schemas.openxmlformats.org/officeDocument/2006/relationships/slide" Target="slides/slide282.xml"/><Relationship Id="rId296" Type="http://schemas.openxmlformats.org/officeDocument/2006/relationships/slide" Target="slides/slide283.xml"/><Relationship Id="rId297" Type="http://schemas.openxmlformats.org/officeDocument/2006/relationships/slide" Target="slides/slide284.xml"/><Relationship Id="rId298" Type="http://schemas.openxmlformats.org/officeDocument/2006/relationships/slide" Target="slides/slide285.xml"/><Relationship Id="rId299" Type="http://schemas.openxmlformats.org/officeDocument/2006/relationships/slide" Target="slides/slide286.xml"/><Relationship Id="rId300" Type="http://schemas.openxmlformats.org/officeDocument/2006/relationships/slide" Target="slides/slide287.xml"/><Relationship Id="rId301" Type="http://schemas.openxmlformats.org/officeDocument/2006/relationships/slide" Target="slides/slide288.xml"/><Relationship Id="rId302" Type="http://schemas.openxmlformats.org/officeDocument/2006/relationships/slide" Target="slides/slide289.xml"/><Relationship Id="rId303" Type="http://schemas.openxmlformats.org/officeDocument/2006/relationships/slide" Target="slides/slide290.xml"/><Relationship Id="rId304" Type="http://schemas.openxmlformats.org/officeDocument/2006/relationships/slide" Target="slides/slide291.xml"/><Relationship Id="rId305" Type="http://schemas.openxmlformats.org/officeDocument/2006/relationships/slide" Target="slides/slide292.xml"/><Relationship Id="rId306" Type="http://schemas.openxmlformats.org/officeDocument/2006/relationships/slide" Target="slides/slide293.xml"/><Relationship Id="rId307" Type="http://schemas.openxmlformats.org/officeDocument/2006/relationships/slide" Target="slides/slide294.xml"/><Relationship Id="rId308" Type="http://schemas.openxmlformats.org/officeDocument/2006/relationships/slide" Target="slides/slide295.xml"/><Relationship Id="rId309" Type="http://schemas.openxmlformats.org/officeDocument/2006/relationships/slide" Target="slides/slide296.xml"/><Relationship Id="rId310" Type="http://schemas.openxmlformats.org/officeDocument/2006/relationships/slide" Target="slides/slide297.xml"/><Relationship Id="rId311" Type="http://schemas.openxmlformats.org/officeDocument/2006/relationships/slide" Target="slides/slide298.xml"/><Relationship Id="rId312" Type="http://schemas.openxmlformats.org/officeDocument/2006/relationships/slide" Target="slides/slide299.xml"/><Relationship Id="rId313" Type="http://schemas.openxmlformats.org/officeDocument/2006/relationships/slide" Target="slides/slide300.xml"/><Relationship Id="rId314" Type="http://schemas.openxmlformats.org/officeDocument/2006/relationships/slide" Target="slides/slide301.xml"/><Relationship Id="rId315" Type="http://schemas.openxmlformats.org/officeDocument/2006/relationships/slide" Target="slides/slide302.xml"/><Relationship Id="rId316" Type="http://schemas.openxmlformats.org/officeDocument/2006/relationships/slide" Target="slides/slide303.xml"/><Relationship Id="rId317" Type="http://schemas.openxmlformats.org/officeDocument/2006/relationships/slide" Target="slides/slide304.xml"/><Relationship Id="rId318" Type="http://schemas.openxmlformats.org/officeDocument/2006/relationships/slide" Target="slides/slide305.xml"/><Relationship Id="rId319" Type="http://schemas.openxmlformats.org/officeDocument/2006/relationships/slide" Target="slides/slide306.xml"/><Relationship Id="rId320" Type="http://schemas.openxmlformats.org/officeDocument/2006/relationships/slide" Target="slides/slide307.xml"/><Relationship Id="rId321" Type="http://schemas.openxmlformats.org/officeDocument/2006/relationships/slide" Target="slides/slide308.xml"/><Relationship Id="rId322" Type="http://schemas.openxmlformats.org/officeDocument/2006/relationships/slide" Target="slides/slide309.xml"/><Relationship Id="rId323" Type="http://schemas.openxmlformats.org/officeDocument/2006/relationships/slide" Target="slides/slide310.xml"/><Relationship Id="rId324" Type="http://schemas.openxmlformats.org/officeDocument/2006/relationships/slide" Target="slides/slide311.xml"/><Relationship Id="rId325" Type="http://schemas.openxmlformats.org/officeDocument/2006/relationships/slide" Target="slides/slide312.xml"/><Relationship Id="rId326" Type="http://schemas.openxmlformats.org/officeDocument/2006/relationships/slide" Target="slides/slide313.xml"/><Relationship Id="rId327" Type="http://schemas.openxmlformats.org/officeDocument/2006/relationships/slide" Target="slides/slide314.xml"/><Relationship Id="rId328" Type="http://schemas.openxmlformats.org/officeDocument/2006/relationships/slide" Target="slides/slide315.xml"/><Relationship Id="rId329" Type="http://schemas.openxmlformats.org/officeDocument/2006/relationships/slide" Target="slides/slide316.xml"/><Relationship Id="rId330" Type="http://schemas.openxmlformats.org/officeDocument/2006/relationships/slide" Target="slides/slide317.xml"/><Relationship Id="rId331" Type="http://schemas.openxmlformats.org/officeDocument/2006/relationships/slide" Target="slides/slide318.xml"/><Relationship Id="rId332" Type="http://schemas.openxmlformats.org/officeDocument/2006/relationships/slide" Target="slides/slide319.xml"/><Relationship Id="rId333" Type="http://schemas.openxmlformats.org/officeDocument/2006/relationships/slide" Target="slides/slide320.xml"/><Relationship Id="rId334" Type="http://schemas.openxmlformats.org/officeDocument/2006/relationships/slide" Target="slides/slide321.xml"/><Relationship Id="rId335" Type="http://schemas.openxmlformats.org/officeDocument/2006/relationships/slide" Target="slides/slide322.xml"/><Relationship Id="rId336" Type="http://schemas.openxmlformats.org/officeDocument/2006/relationships/slide" Target="slides/slide323.xml"/><Relationship Id="rId337" Type="http://schemas.openxmlformats.org/officeDocument/2006/relationships/slide" Target="slides/slide324.xml"/><Relationship Id="rId338" Type="http://schemas.openxmlformats.org/officeDocument/2006/relationships/slide" Target="slides/slide325.xml"/><Relationship Id="rId339" Type="http://schemas.openxmlformats.org/officeDocument/2006/relationships/slide" Target="slides/slide326.xml"/><Relationship Id="rId340" Type="http://schemas.openxmlformats.org/officeDocument/2006/relationships/slide" Target="slides/slide327.xml"/><Relationship Id="rId341" Type="http://schemas.openxmlformats.org/officeDocument/2006/relationships/slide" Target="slides/slide328.xml"/><Relationship Id="rId342" Type="http://schemas.openxmlformats.org/officeDocument/2006/relationships/slide" Target="slides/slide329.xml"/><Relationship Id="rId343" Type="http://schemas.openxmlformats.org/officeDocument/2006/relationships/slide" Target="slides/slide330.xml"/><Relationship Id="rId344" Type="http://schemas.openxmlformats.org/officeDocument/2006/relationships/slide" Target="slides/slide331.xml"/><Relationship Id="rId345" Type="http://schemas.openxmlformats.org/officeDocument/2006/relationships/slide" Target="slides/slide332.xml"/><Relationship Id="rId346" Type="http://schemas.openxmlformats.org/officeDocument/2006/relationships/slide" Target="slides/slide333.xml"/><Relationship Id="rId347" Type="http://schemas.openxmlformats.org/officeDocument/2006/relationships/slide" Target="slides/slide334.xml"/><Relationship Id="rId348" Type="http://schemas.openxmlformats.org/officeDocument/2006/relationships/slide" Target="slides/slide335.xml"/><Relationship Id="rId349" Type="http://schemas.openxmlformats.org/officeDocument/2006/relationships/slide" Target="slides/slide336.xml"/><Relationship Id="rId350" Type="http://schemas.openxmlformats.org/officeDocument/2006/relationships/slide" Target="slides/slide337.xml"/><Relationship Id="rId351" Type="http://schemas.openxmlformats.org/officeDocument/2006/relationships/slide" Target="slides/slide338.xml"/><Relationship Id="rId352" Type="http://schemas.openxmlformats.org/officeDocument/2006/relationships/slide" Target="slides/slide339.xml"/><Relationship Id="rId353" Type="http://schemas.openxmlformats.org/officeDocument/2006/relationships/slide" Target="slides/slide340.xml"/><Relationship Id="rId354" Type="http://schemas.openxmlformats.org/officeDocument/2006/relationships/slide" Target="slides/slide341.xml"/><Relationship Id="rId355" Type="http://schemas.openxmlformats.org/officeDocument/2006/relationships/slide" Target="slides/slide342.xml"/><Relationship Id="rId356" Type="http://schemas.openxmlformats.org/officeDocument/2006/relationships/slide" Target="slides/slide343.xml"/><Relationship Id="rId357" Type="http://schemas.openxmlformats.org/officeDocument/2006/relationships/slide" Target="slides/slide344.xml"/><Relationship Id="rId358" Type="http://schemas.openxmlformats.org/officeDocument/2006/relationships/slide" Target="slides/slide345.xml"/><Relationship Id="rId359" Type="http://schemas.openxmlformats.org/officeDocument/2006/relationships/slide" Target="slides/slide346.xml"/><Relationship Id="rId360" Type="http://schemas.openxmlformats.org/officeDocument/2006/relationships/slide" Target="slides/slide347.xml"/><Relationship Id="rId361" Type="http://schemas.openxmlformats.org/officeDocument/2006/relationships/slide" Target="slides/slide348.xml"/><Relationship Id="rId362" Type="http://schemas.openxmlformats.org/officeDocument/2006/relationships/slide" Target="slides/slide349.xml"/><Relationship Id="rId363" Type="http://schemas.openxmlformats.org/officeDocument/2006/relationships/slide" Target="slides/slide350.xml"/><Relationship Id="rId364" Type="http://schemas.openxmlformats.org/officeDocument/2006/relationships/slide" Target="slides/slide351.xml"/><Relationship Id="rId365" Type="http://schemas.openxmlformats.org/officeDocument/2006/relationships/slide" Target="slides/slide352.xml"/><Relationship Id="rId366" Type="http://schemas.openxmlformats.org/officeDocument/2006/relationships/slide" Target="slides/slide353.xml"/><Relationship Id="rId367" Type="http://schemas.openxmlformats.org/officeDocument/2006/relationships/slide" Target="slides/slide354.xml"/><Relationship Id="rId368" Type="http://schemas.openxmlformats.org/officeDocument/2006/relationships/slide" Target="slides/slide355.xml"/><Relationship Id="rId369" Type="http://schemas.openxmlformats.org/officeDocument/2006/relationships/slide" Target="slides/slide356.xml"/><Relationship Id="rId370" Type="http://schemas.openxmlformats.org/officeDocument/2006/relationships/slide" Target="slides/slide357.xml"/><Relationship Id="rId371" Type="http://schemas.openxmlformats.org/officeDocument/2006/relationships/slide" Target="slides/slide358.xml"/><Relationship Id="rId372" Type="http://schemas.openxmlformats.org/officeDocument/2006/relationships/slide" Target="slides/slide359.xml"/><Relationship Id="rId373" Type="http://schemas.openxmlformats.org/officeDocument/2006/relationships/slide" Target="slides/slide360.xml"/><Relationship Id="rId374" Type="http://schemas.openxmlformats.org/officeDocument/2006/relationships/slide" Target="slides/slide361.xml"/><Relationship Id="rId375" Type="http://schemas.openxmlformats.org/officeDocument/2006/relationships/slide" Target="slides/slide362.xml"/><Relationship Id="rId376" Type="http://schemas.openxmlformats.org/officeDocument/2006/relationships/slide" Target="slides/slide363.xml"/><Relationship Id="rId377" Type="http://schemas.openxmlformats.org/officeDocument/2006/relationships/slide" Target="slides/slide364.xml"/><Relationship Id="rId378" Type="http://schemas.openxmlformats.org/officeDocument/2006/relationships/slide" Target="slides/slide365.xml"/><Relationship Id="rId379" Type="http://schemas.openxmlformats.org/officeDocument/2006/relationships/slide" Target="slides/slide366.xml"/><Relationship Id="rId380" Type="http://schemas.openxmlformats.org/officeDocument/2006/relationships/slide" Target="slides/slide367.xml"/><Relationship Id="rId381" Type="http://schemas.openxmlformats.org/officeDocument/2006/relationships/slide" Target="slides/slide368.xml"/><Relationship Id="rId382" Type="http://schemas.openxmlformats.org/officeDocument/2006/relationships/slide" Target="slides/slide369.xml"/><Relationship Id="rId383" Type="http://schemas.openxmlformats.org/officeDocument/2006/relationships/slide" Target="slides/slide370.xml"/><Relationship Id="rId384" Type="http://schemas.openxmlformats.org/officeDocument/2006/relationships/slide" Target="slides/slide371.xml"/><Relationship Id="rId385" Type="http://schemas.openxmlformats.org/officeDocument/2006/relationships/slide" Target="slides/slide372.xml"/><Relationship Id="rId386" Type="http://schemas.openxmlformats.org/officeDocument/2006/relationships/slide" Target="slides/slide373.xml"/><Relationship Id="rId387" Type="http://schemas.openxmlformats.org/officeDocument/2006/relationships/slide" Target="slides/slide374.xml"/><Relationship Id="rId388" Type="http://schemas.openxmlformats.org/officeDocument/2006/relationships/slide" Target="slides/slide375.xml"/><Relationship Id="rId389" Type="http://schemas.openxmlformats.org/officeDocument/2006/relationships/slide" Target="slides/slide376.xml"/><Relationship Id="rId390" Type="http://schemas.openxmlformats.org/officeDocument/2006/relationships/slide" Target="slides/slide377.xml"/><Relationship Id="rId391" Type="http://schemas.openxmlformats.org/officeDocument/2006/relationships/slide" Target="slides/slide378.xml"/><Relationship Id="rId392" Type="http://schemas.openxmlformats.org/officeDocument/2006/relationships/slide" Target="slides/slide379.xml"/><Relationship Id="rId393" Type="http://schemas.openxmlformats.org/officeDocument/2006/relationships/slide" Target="slides/slide380.xml"/><Relationship Id="rId394" Type="http://schemas.openxmlformats.org/officeDocument/2006/relationships/slide" Target="slides/slide381.xml"/><Relationship Id="rId395" Type="http://schemas.openxmlformats.org/officeDocument/2006/relationships/slide" Target="slides/slide382.xml"/><Relationship Id="rId396" Type="http://schemas.openxmlformats.org/officeDocument/2006/relationships/slide" Target="slides/slide383.xml"/><Relationship Id="rId397" Type="http://schemas.openxmlformats.org/officeDocument/2006/relationships/slide" Target="slides/slide384.xml"/><Relationship Id="rId398" Type="http://schemas.openxmlformats.org/officeDocument/2006/relationships/slide" Target="slides/slide385.xml"/><Relationship Id="rId399" Type="http://schemas.openxmlformats.org/officeDocument/2006/relationships/slide" Target="slides/slide386.xml"/><Relationship Id="rId400" Type="http://schemas.openxmlformats.org/officeDocument/2006/relationships/slide" Target="slides/slide387.xml"/><Relationship Id="rId401" Type="http://schemas.openxmlformats.org/officeDocument/2006/relationships/slide" Target="slides/slide388.xml"/><Relationship Id="rId402" Type="http://schemas.openxmlformats.org/officeDocument/2006/relationships/slide" Target="slides/slide389.xml"/><Relationship Id="rId403" Type="http://schemas.openxmlformats.org/officeDocument/2006/relationships/slide" Target="slides/slide390.xml"/><Relationship Id="rId404" Type="http://schemas.openxmlformats.org/officeDocument/2006/relationships/slide" Target="slides/slide391.xml"/><Relationship Id="rId405" Type="http://schemas.openxmlformats.org/officeDocument/2006/relationships/slide" Target="slides/slide392.xml"/><Relationship Id="rId406" Type="http://schemas.openxmlformats.org/officeDocument/2006/relationships/slide" Target="slides/slide393.xml"/><Relationship Id="rId407" Type="http://schemas.openxmlformats.org/officeDocument/2006/relationships/slide" Target="slides/slide394.xml"/><Relationship Id="rId408" Type="http://schemas.openxmlformats.org/officeDocument/2006/relationships/slide" Target="slides/slide395.xml"/><Relationship Id="rId409" Type="http://schemas.openxmlformats.org/officeDocument/2006/relationships/slide" Target="slides/slide396.xml"/><Relationship Id="rId410" Type="http://schemas.openxmlformats.org/officeDocument/2006/relationships/slide" Target="slides/slide397.xml"/><Relationship Id="rId411" Type="http://schemas.openxmlformats.org/officeDocument/2006/relationships/slide" Target="slides/slide398.xml"/><Relationship Id="rId412" Type="http://schemas.openxmlformats.org/officeDocument/2006/relationships/slide" Target="slides/slide399.xml"/><Relationship Id="rId413" Type="http://schemas.openxmlformats.org/officeDocument/2006/relationships/slide" Target="slides/slide400.xml"/><Relationship Id="rId414" Type="http://schemas.openxmlformats.org/officeDocument/2006/relationships/slide" Target="slides/slide401.xml"/><Relationship Id="rId415" Type="http://schemas.openxmlformats.org/officeDocument/2006/relationships/slide" Target="slides/slide402.xml"/><Relationship Id="rId416" Type="http://schemas.openxmlformats.org/officeDocument/2006/relationships/slide" Target="slides/slide403.xml"/><Relationship Id="rId417" Type="http://schemas.openxmlformats.org/officeDocument/2006/relationships/slide" Target="slides/slide404.xml"/><Relationship Id="rId418" Type="http://schemas.openxmlformats.org/officeDocument/2006/relationships/slide" Target="slides/slide405.xml"/><Relationship Id="rId419" Type="http://schemas.openxmlformats.org/officeDocument/2006/relationships/slide" Target="slides/slide406.xml"/><Relationship Id="rId420" Type="http://schemas.openxmlformats.org/officeDocument/2006/relationships/slide" Target="slides/slide407.xml"/><Relationship Id="rId4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9A8-8C96-446F-89D8-AA3CC190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76E-B742-4022-B80E-A28BA2A5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7E381-429B-410F-BDF8-286E4A2E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53D21-CFFB-436D-AEA3-15BA4657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95200-B059-4D82-BE4B-E73DBB9D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C516B-FED9-4EA0-B6BF-62F77122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884AC-B04F-4768-A6AC-A9E6BCA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40578-D59E-4AE6-9753-F1901C8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02529-FBE3-4376-A2A4-C970DAF0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37E1A-BFE6-4727-8DEE-A203BFD6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62751-D2DD-4341-85AB-FBD46969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E0941-1386-4BDD-A95F-5CE76FE9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DAF-FC97-4487-B5BA-F568C638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A6975-1B4D-450A-8D7A-8C0563F0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146B0-02DE-42B0-BB0E-12F9ED3B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59189-D055-4339-A45F-1F516B81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3BE38-5CAA-45F7-9A23-9EDC77A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EA49D-BC8C-4EF4-A333-5B11CB6C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95836-4D46-4557-8C62-CCAE435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E982F-AB04-4C82-AF23-3DECDBA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3C901-B519-4417-A5CB-C944821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69CDC-3373-41E0-A413-6BF9907F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962A4-19BD-4B81-AE46-48486BB2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893-17E8-4148-AC04-F8A4B18C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62149-11CB-49AB-A9F9-6E8BD5F5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13E69-68FC-45C4-9234-839C992F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1DF01-0343-4B9C-B21B-EF849A54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19474-68BB-46B3-B7A6-B9E6DE3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076E-146D-48C4-AA29-21AA805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7CB80-8F37-4EF2-80D9-AF05879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5D2B5-550F-44B2-A518-8A72890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0492C-E217-4D7B-B426-50BB5DF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97DD4-CBCF-407B-83B2-0734CC7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BFA77-AB32-42CF-AFF1-5E09512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1E2E-C4F1-4551-AB5C-91FDDD05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2A42B-DEB8-43C6-87E1-5680CD4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B522-769E-4C90-8C79-757B2E05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C868A-3CBA-4FF0-96F9-A8438CB9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9ED3E-9223-4EC7-AD2A-0BD42925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FAA84-0AA6-428D-8FD7-850099D7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7A601-20E4-4428-9E5C-E42243C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62763-A06B-4EFB-BCD9-E5BB4AA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CBEAD-4427-48F8-9AC9-821DD886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68FB4-5E2E-4D84-858C-14BEB838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5DCDE-0A71-415D-A0D3-6119138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98E9-1B71-40B9-BF32-6D0D35F1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BD3F1-697E-4539-AAB4-E647EBA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C0950-9F32-435A-A841-FAE27A96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FB86E-480A-4F29-9D84-A83F62E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40F24-5BD1-4822-8BAD-FA8E3236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977B2-F95C-4E01-919F-F0D827CC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3FE7-C2A3-48E7-9555-5A37798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B28-2C62-4AD1-BD7F-8166FDA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7ABF-379F-4ED5-9552-E1917F53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45ED-339C-4E14-AC39-A16B577B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90BC-0E6F-4AE9-B51D-CDED6688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E45-613D-49A0-A7E4-7BE11015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2399-2F9F-48BB-9B27-8021349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C4B0-63B9-4858-8B2E-EEB4BCCF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707-39BF-49E2-AC95-FAFE5B05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4CC2-E75C-4701-AF51-21960AF3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0628-46B1-44F1-8692-D092041E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8819-86A7-43AF-BED0-37EE2BB7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BA60C-B251-482E-BBD8-3CE0527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A7B81-B2E2-493A-A794-82FC019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6D11-2FF5-43F2-9958-D8AF738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BEAE2-95C9-4224-A5CB-C7415B5F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2B1-C36A-484F-B97A-8CDE992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9349-7515-4C3E-877A-755A086F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E17A-EC2A-429B-91B0-31F4BBF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68F2-35FB-4433-A1C1-9455D6AE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F9AD-A52F-4E4C-8D0B-4735AED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91BC-23E9-417F-B8E5-14CAD221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45F6-5383-4623-90EF-5464313E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1D0C-A20B-4D6C-BEC7-FBDF1E63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9A69-6DFF-4AC1-99E9-30175E70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B7F8-A13D-4BBB-BB2A-9030BDF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CD849-6F0D-4906-94EC-BF6B4F82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8D6-5A4B-4EE1-A3CF-AB45A6EE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54BC-AD7D-42AF-9236-4B04048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99BF-5BDE-4E27-B5EB-9E40661C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2132-B27D-484A-A938-0976204D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B2D0E-9A72-4BA9-B8E4-C8B4BC2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8E63-BFB3-429C-9D69-7DDCDD48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D2D4-811E-4DC1-A3F7-CF25DD4D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F52D-302D-45B9-9A20-9C77E54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C843-1F96-468C-BA83-E2235A43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B6404-48C6-40AA-91D9-40FC1454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8C99-A422-4CE3-BF3F-F313CF3A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C44-A512-4CE0-8850-258A05C8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6DD6-763C-49D7-9939-C3FAB9B0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C156D-5CC5-453B-94C3-DF9EF472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ED0C8-0074-4D9F-85AD-9DC8A9A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5BC0-9DA1-4919-9D07-F36ABDA4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08D8-E6EE-406E-91A9-4E42400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085FE-DB15-44B1-81D7-C43E0976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B0DA0-8123-4BDC-B71C-69037D9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3911-48D8-4D7E-ABBE-3CF9769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B613-0B4C-4749-9D5A-065355AB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79835-2992-406A-A990-D7B0DE4E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9CF-F861-41B5-9849-F4554B19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EE71-8309-442C-AD38-3F8F0B47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EA3E-993D-4D32-AEEF-25120E06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F9C2A-C2D8-473C-8AB4-25B08635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77A58-B260-414A-B9EA-446B55B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1605-490E-4E66-B954-D4889344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DCF2-455E-44C3-A4FF-113919F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25FD4-12AF-4ECF-950C-9E3F909B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15E9-7E66-41B9-A4DC-4AE42D67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C1EB-7D5D-405A-A0AD-317D2A8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77850-50D4-456E-9BAD-C1F5CB4B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9B3-6BE9-4883-867B-2E83E26D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96320-404B-4A90-815C-68357669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4054E-6E65-4706-8BA0-46AC5C7C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7381-0A0A-4858-8599-F298C264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534DC-7561-492F-9810-8D64DF6E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6FB85-37C4-43D0-84AD-CC2FDAF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D99D-FF3D-47E1-96E3-705E0E76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8307-A455-40A5-9824-45EA29B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6F04-7F09-4A9D-BF54-451568EA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81CA-96DE-4E44-806D-D341E1E5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7B4A9-9756-4F41-8DE8-BB6F2A0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CE4-DD12-494F-8EE6-09459F11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E87FE-2B13-4F75-A514-0F9BDB0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9AB00-CBD6-47CC-B26B-5D5EA5B3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EBF48-66F1-4281-938E-FFBDF95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60E2C-577B-4817-BA08-6BE8F712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C3A7-9B8E-4A71-9AB7-D70E5E83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C117-3397-4A78-A51F-63045517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639C0-AC40-444C-8D0B-030C04CE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BA24-9D2B-434B-88AA-C9CD1E2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C8959-CBE7-46B0-89BE-04684C92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E83F-6A63-46CB-AD1C-203F129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F71-8E8D-4486-82A5-915C9D87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4A1ED-DF8E-4062-B5AF-71E3316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B00AB-516C-4C94-9FF7-B721599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04600-7C40-4EAB-959A-574408A6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3A990-46AD-4672-B474-B67D262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093D-C6A6-4EAA-BA69-3F1EC04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F00B-50B1-4800-AD20-FBE7C641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54C75-1184-45C8-A127-83D040D9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F3F9-459C-4B7B-AB9B-6849254B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87E1-B0BD-4940-B7F0-0D93CE85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CCBD0-8658-4F20-89A7-9B80717A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FC37-5A94-4BD7-AFAE-D8AC2ADC351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55BF-3783-41C2-8FD6-063985284683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8D9-8B9C-45D0-84E0-B9939F2D119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44A2-5CD7-457F-BEF3-9F47E8CAE8E5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6ABE-43E0-4BD7-9AD4-47FA68645AD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0DB-7010-42B3-AA82-FA574F06622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F508-613D-4C5B-AE04-C2B18AE6EC1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FE63-BE06-4982-B0B9-E5A071E69F7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283E-10BD-40F6-840B-953BCD0010C4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334-4C34-4318-8D92-AA7CAFB4ED47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8C1A-F1C1-486F-9DDC-495612D95AE2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8B2F-2805-4C6F-8588-47EC57DC23C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03280" y="162864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 يستطيع الرب ب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هي رفع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90720" y="2733840"/>
            <a:ext cx="7086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ي ويا أم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ي م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نّي الخطا صدر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371600" y="2733840"/>
            <a:ext cx="66294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نجمةَ الصبحِ شعّ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ـي معابدِنـ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نوّري عقلَ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سّمْعَ والبصر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يا رب رحما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523880" y="190512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هو ابنُكَ دوم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كفِّرُ عنّ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فدا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وعٍ عج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676520" y="205740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ا قد تجسّ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طوعاً وأجر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هُ الزكيّة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وقَ الصّ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يفيض قل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ُحَلَّ قيودُ الظُلمِ ويُطْلَقَ الـمنسحقونَ أحرار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فْرُشَ للجائعِ خُبْزَ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تُدخِلَ الـمسكينَ الطريدَ بيتَ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844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 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رى العُريانَ الطريد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تكسُوَهُ، ولا تتهرّ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مساعدةِ قريبـِ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سكَبتَ لُقمَتَكَ للجائِ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بَّيتَ حاجةَ البائسين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ُشرِقُ في الظلمَةِ نورُ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الظُهرِ تكونُ لياليكَ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295280" y="134136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وم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حبات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وادعات... تزهو جنّات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ِ العاتي الأمواج.. يعلو سراج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ّ القلبَ الـملق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الأحزان... يلقى الحنان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ي ايم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داءِ العالمْ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 وفيه الحقّ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ِ الهوجاءِ شفاه... تتلو الصلا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فـي صمتِ الكو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ـمُقفلِ... من يصغي ل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ي إذ ترنو عينايَ ل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صفو الأضو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كلّي إيمان... 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سي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خبزُ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أتني لا يَجُعْ أبد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يؤمن 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يعطش أبد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جسدي طعام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ي شراب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كل جسدي وشرب د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قام فـيّ وأنا في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ما أكلتم هذا الخبز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شربتم من هذه الكأس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خبرونَ بموتِ الرب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ن يعود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ب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ِنه بنفس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وش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ـي الأعا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سم الر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160020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طرق أورشل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طُرُقُ أورشليمَ نائِحَة.. لعدمِ القادمينَ إلى الأعيادْ.. وجميعُ أبوابها متهدّمَهْ.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هذا جسدُكَ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دمُكَ الطاهرُ فاغس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اغسل يا ربِّ خطايا العالَ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لتَحيَ بروحِكَ أنفسُن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400" spc="-1" strike="noStrike">
                <a:solidFill>
                  <a:srgbClr val="ffffff"/>
                </a:solidFill>
                <a:latin typeface="Tahoma"/>
                <a:cs typeface="Akhbar MT"/>
              </a:rPr>
              <a:t>كهنتُها مُتنهّدون وعذاراها متحسِّرات وهي في مرارةٍ.</a:t>
            </a:r>
            <a:endParaRPr b="0" lang="en-US" sz="10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ea typeface="Akhbar MT"/>
              </a:rPr>
              <a:t> الربُ صالحٌ للذينَ ينتظرونَهُ للنفسِ التي تلتمسَهُ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خيرٌ أن يُنتظَر خلاصُ الربِ بسكوتٍ لأن السيّدَ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لا يُقصي إلى الأبد. 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فإنه ولو أَعْنَت، يَرحَمُ بحسبِ كثرةِ رأفتهِ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عيني تقطُرُ ولا تسكُت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أنه لا قرارَ لي إلى أن يطلعَ وينظُرَ الربُ من السماء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عوتُ باسمكَ يا رب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ع صوتي لا تحجُبْ أُذنَكَ عن استغاث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قتربْ يومَ أدعو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ذا هو اليو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10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بّ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لنفرح ونتهلَّل به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قُم الل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تشتّت جميع أعدائ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يهرُب مُبغضوه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َبيدوا كما يُبَدَّد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دخان وكما يذوب الشمع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هِ الن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ذلك يهلك الخطأ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الصدِّيقون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سروري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لوي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لاكُ اللامِعُ عندَ القبر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لَ لحاملاتِ الطيب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ـماذا تَمزُجْنَ الطُيوبَ بالدموعْ باكياتٍ وراثيات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نظرنَ اللحد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فرحنَ لأنَّ الـمخلِّص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قاً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ديش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سجُدُ للآب ولابنهِ ولروحِ قُدْسِهِ ثالوثاً مقدّساً بجوهرٍ واحدٍ صارخينَ معَ السرافيمْ قدّوسٌ أنتَ ياربْ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بقيومت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َقْيومْتِه دْمَلْك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شِيحُو نِسَبْ حوسوي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َفْشوتَنْ بْهَيْمْنوتُ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شْررُوا نِيمَارْحُول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َوُييتْ لَبْرُودْفَرْ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َصْليبِهِ بْرِيخْ فُرُو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بْخول فينيو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وْرِبْ دُخْرو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يولِدْتِهْ وَدْقاديشِهْ وَدْعانيدِيه مْهَيمِنيهْ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َيْلَوتُو دَشْمايو قُويْم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امَنْ بْغاوُبتْ قودْشُوا وَمْزايْحِينْ لِيهْ لفاغْرُو دْبَر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وهو دَدْبيحْ قُودْمَ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ْرُوبْ سَابْ مِينِه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حُوسوي حَاوْبهْ وَحْطُوهِيهْ هللوي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َالْ مَدْبْحُوخْ مُورْ نِتْدَخْرُونْ أَبُوهَيْنْ واحَينْ وْرَبُونَيْنْ وَنْقُومُونْ مِنْ يَامينُوخْ بْيَومُو دّنْحُو رَابُوتُوخْ مَلْكُو مْشِيحُو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كنيس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لكنيسة.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قراء، بسطاء، ومساك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ذّبت فيهم، ملوكٌ وسلاطين.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افَ صوتُ الله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م، حيثُ كنتُم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كُم الأرضَ، فثوروا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لتكن رايتكم عبر السنين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م يكن بعدُ لنا فوقَ تلّ من تلالِ الأرضِ بيت، وأتيت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اً جاء يبني، فبنى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الصباح، نهتف: الله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في عمق الظلام، فلتكن أمّ الجراح، وعلى الأرض السلام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ما الشرُّ ليلٌ لا يُردّ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طغى كلّ قويّ، والمجاذيفُ سُدى في الموج، والأفق شقي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أظلمت الدنيا، وعمَّ الأرض حقد، فلتقاتل، في سبيلِ الشمس، والأطفال، والعدل، وميلاد السنابل.. أَلكنيس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رب راع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11592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ردّ نفسي ويهدين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ى سبل البرّ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 اسمه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ي ولو سلكت في وادي ظلال الموت لا أخاف سوء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أنّك مع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صاكَ وعكّازك هما يعزيّان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26028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جودة والرحمة تتبعانني جميع أيام حياتي وسكناي في بيت الربّ طول الأيام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قربانِ أعطِ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ُ أن نلقا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 نحنُ بن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 نرجوكِ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نا القيامة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 آمن ب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حيا وإن م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حن الذين لنا باكورةُ الروح، نئنُّ منتظرين التبنّي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فتداءَ أجسادِن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ذا كان أحد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ـ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و خلقٌ جديد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 يصنع العجائ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جيب الطلبَ؟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479600" y="162576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للويا افرح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18900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ضوءِ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فليكن اسم الربِّ مباركاً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آ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بدِ الآبد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ّ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عالَوا نُسَرّ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نفرح في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لا يومَ مثله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ا قبل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لا بعد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 العظ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كلي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جما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عود والكن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بوقِ والقيث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836640"/>
            <a:ext cx="9144000" cy="10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بِ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من مشرق الشمس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لـى مغربه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كل التسبي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9144000" cy="70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عبك يا رب يسبح اس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 القوات تسجد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ملائكة تعظ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 الطري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حّدنا دوماً ب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نعمل مشيئت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الأعماق نصرخ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نحبّك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ربي عظيم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 أحكام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لك الدهو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9144000" cy="12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مجد اسم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يارب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خاف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قدس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 الشعوب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نحني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أن مجدك سيُرى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هللويا 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آم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826920" y="1052640"/>
            <a:ext cx="75963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وذ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الخلاص واف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0" cy="9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بِّي أنتَ مُنقذ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مَلجأ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ـِكَ اعتَصَمتُ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ي يَتوقُ للقيامَةِ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ْ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قبَلْ رَجائ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ي، يا قوَّتي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رَفَعتَ نف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ماء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كَ أُشيدُ يا فاديَّ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الحيّ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َدَى الدُّهورِ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صلاتك م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لاتُكِ مع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أطهرَ العب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وني عَون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سبَ المُعت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وذا حالُ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لتَلَفِ أشرَف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رحمينا 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ريئةً من الفس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بتولُ صلِّ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لأجل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ئلاّ نهلِ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قِبَل شرِّ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إيماني ساطع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الضوّ من خَلف الغيم، 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28600" y="152280"/>
            <a:ext cx="8915400" cy="11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ا إيماني الفرح الوسيع ومن خلف العواصف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جايي الربيع</a:t>
            </a:r>
            <a:r>
              <a:rPr b="1" lang="ar-LB" sz="10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28600" y="162000"/>
            <a:ext cx="8915400" cy="13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ذا كبـرت أحزاني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ونسيني العمر التاني،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نتَ اللي ما بتنساني.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258920" y="184464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بيتي أنا بيت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بيتي أنا ب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ما إلي حدا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من كتر ما نادَ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ـمدى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نطرتك عَ ب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عَ كلّ البواب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كتبتلّك عذ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عَ شمس الغياب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ما إلى غيرك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نساني. 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لدي صارت منفى، طرقاتي غطّاها الشوك والأعشاب  البريّه، ابعتلي بهالليل من عندك حدا يطلّ علي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شمس الـمساك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أرض الخوف من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إيام المظلوم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لفتات الموعود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م ا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خلّي يدوّي صوتك عليّ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أنا عالوعد وقلبي طاير، صوبك غنيّه.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39640" y="2060640"/>
            <a:ext cx="8209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زهرة من زهور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ركني ساع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دمع بتزرع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 بتحص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39640" y="2049480"/>
            <a:ext cx="7993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دلك فاض علي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رمك ضوّا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كلّن نسيو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حدك ما بتنسا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11280" y="1916280"/>
            <a:ext cx="7848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اديتك من حز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 إنك مع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ْسعي يا مطار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 اركع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فلنحمل ما دام نه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شربنا كأس الآلا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أزحنا حجرَ القبر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صرنا أحراراً كالنسمة أطهاراً كدموع الفجر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بسنا درعَ الإيمان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ورفعنا علمَ الحبّ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نعلنَ من قلبِ الظلمة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نور خلاصِ الانسا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908000" y="0"/>
            <a:ext cx="5410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Tahoma"/>
              </a:rPr>
              <a:t>يا أم الل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له يا حنونة يا كنز الرحمة المعونة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تِ ملجانا عليكِ رج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تشفّعي في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يا عذراء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تحنّني على موتا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إن كانَ جسمُك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بعيداً منّ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يتها البتولُ أمُّ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صلواتُكِ هي تَصحبُنا وتكونُ معَنا وتَحفظُ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جاهِ من شرّفكِ على العالـمين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ين ظهر منكِ ظهوراً مبين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طلبي منه للخاطئين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الـمراحم</a:t>
            </a:r>
            <a:r>
              <a:rPr b="1" lang="ar-LB" sz="11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لدهر الداهرين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أمُّنا ورجانا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فخرُنا ومَلجانا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عندَ ابنك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إشفعي في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يغفر برأفتِهِ خطاي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ا يا حنونة يا مملوءة كلّ نعمة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بل خلِّصي عبيدَكِ أجمعينْ لنشكُرَكِ لدهرِ الداهري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حبك يا مري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476360" y="0"/>
            <a:ext cx="622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بّك يا مري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غاية الـمنى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معظّم كوني أمنّا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928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بنك اوص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نا في الصليب أعطانا إي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شخص الحبي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0328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25892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الأمّ الحن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كِ نستع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ظهري الـمع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كِ للبن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Tahoma"/>
              </a:rPr>
              <a:t>مجد مر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1844640"/>
            <a:ext cx="9067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د رآها واصطف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ربُّ كلِّ العالـمين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وقاها مُذ بر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َ محذورٍ يش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-250920" y="2036880"/>
            <a:ext cx="93949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ي رجاكُم في شقاك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اسمعوا يا خاطئين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خافوا أن توافو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حماها طالب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ffff"/>
                </a:solidFill>
                <a:latin typeface="Tahoma"/>
                <a:ea typeface="Tahoma"/>
              </a:rPr>
              <a:t>Viens Esprit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طوبى للساع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يا روح الآب، كُن نور دربي أنِرْ السماوات من بهاء مجدك العظ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أيها النور السماوي، يا نبع الحياة قوّي قلوبنا واشفِ أجساد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روح البهجة، يا فرح الكنيسة أعطِ القلوب أن ترنِّم لحن الحن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راحل يا ربيع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َحْ اقطف زهرة من كلّ سياج واعملّك بكرا من الزنبق ت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دِنيي حاج تودّي امو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كلامو بيفنى ولا بيز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ين بدّو يج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يقود الرسالة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المعلّم 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لا حكمو الغوال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ريتك عم تس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أول ترج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البحيرة توعظ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تحت الشجر نتج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رسل 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989000"/>
            <a:ext cx="91440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ـمياه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191628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إن الروحَ يشهد مع أرواحنا بأننا أبناء الله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 يحفَظ قلوبَ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فكارَكم بالـمسيح يسوع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300" spc="-1" strike="noStrike">
                <a:solidFill>
                  <a:srgbClr val="ffffff"/>
                </a:solidFill>
                <a:latin typeface="Tahoma"/>
                <a:cs typeface="Tahoma"/>
              </a:rPr>
              <a:t>الروح يجمع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-144540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ماءُ ما صار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طحينُ خبز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أصبحنا سكنى الله</a:t>
            </a:r>
            <a:r>
              <a:rPr b="1" lang="ar-LB" sz="96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-128196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زيت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سراجُ نو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فرش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و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-181872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حبُ ما ك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قلبُ حي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عرف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ُبّ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-171108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نور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وردُ عط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نثر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عط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قلبا فا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57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 بحرَ الصل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716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 إليكَ تأ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 حِلمِك السما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189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قبَلني في قلبك الزاه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مُنقِذي كي أستريح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ملك أنتَ في قلبي الواهي واجعلُهُ بالحبِ جري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وقام إيليا كالنار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ليصفح بعضُكم عن بعضٍ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كما صفحَ اللهُ عنكم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سيح.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547640" y="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4000" y="149400"/>
            <a:ext cx="8820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يها الذي استدعاك الربّ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ى جبلِ الكرمل للصلاةْ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 الذي أقمت ميتاً من المو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جحيم بكلامِ العليّ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547640" y="7632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187308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عليَّ لأنهُ مسَحَني لأُبَشِّرَ المساكين أرسلني لأشفي منكسري القلوب لأُنادي للأسرى بالحرية للعميان بعودةِ البصرِ إليهم لأُحَرِّر المظلوم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835280" y="0"/>
            <a:ext cx="62658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هلم إيل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35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0" y="2592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كبت علينا ايليا الن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اتِ الرغيفَ وزيتَ اله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نحيا لحبِّ السما والفد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619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صرفتِ صيدا قتلت الأث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ى ما عملت لتحيي الرم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ترفعَ عرشَ الإلهِ العظيم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69236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103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ينادون بعلاً، تناجي الإله، تقول: أنا أرتوي برؤاه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باركُ ما قدسته يداه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35280" y="7632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عطيني الكل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صلا تَ لاقيك قبالي وإركع على دراج السم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وفا تَ وافيك بحالي واعطيني العطا ل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هادي العطا للقلوب العالي أعطيني الطفوله، الحن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واعطيني السلام لِوطني الغالي واعطي للّي راحوا الأم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لحمد والشكر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العالم جائ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 يَحفظ وصاياك ويعتصمُ في ظلِّ جَناحي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ثمر بالبرّ والقداس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في ملكوتك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9144000" cy="163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يتقونك لا يبرحون يسبّحونك لا يجوعون لا يعطشون من نبع الحياة يرتوون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أتوا من الضيقِ يلوّحون بأغصان النخيل بدمِ الحمل غسلوا حلله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 يحلّ فوقهم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فخذوا عن مائدتي الخبز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شو حلوه السم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شبّه يا ابني بال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عن إيمانك أوعى تز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امشي عا الدرب الصح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جم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زراع الكلمه بشج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خدوم الإخوه بود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0"/>
            <a:ext cx="914400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الأسرار وبإيمانك لا تحت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را إنجيلك باستمر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رب استعملني لسلا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-324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، إستعملني لسلامِكَ فأضع الحبَّ حيثُ البُغض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ـمغفرةَ حيثُ الإساءَ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3129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حقيقةَ حيثُ الضلال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182736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 استعملني لسلام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الرب هو ا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عبدِ الربّ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ِ والحمد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هتفنَّ 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رفعِ الأيد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غنّوا ورنّم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أعذبِ الألحا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لأيدي صفّق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سيّدِ الأكوان 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سمِ إلهـِن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نرفعُ الراي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وبخلاصِ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علو الترنيم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5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رقوا الحبَ.. فخذوا ثوب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ea typeface="Tahoma"/>
              </a:rPr>
              <a:t> يا خبز الحيا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2131920"/>
            <a:ext cx="914400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يُّها التائبون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لمّوا باحتر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قتبلوا الإ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هي رجائ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عيمي نعم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ذّتي الـمبتغ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سماء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ُنْ لي قوت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دهرِ الدهو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755640" y="1916280"/>
            <a:ext cx="7596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لإلهنا النصر والمج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سبحوا إلهَ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جميعَ العبا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لذين يتّقونَ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صغار وكب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مدعوّين إلى وليمة العرس لنفرح ونبتهج هللويا و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الربُّ القويُّ ال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52280" y="-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قدّوسٌ أيها الربُّ القويُّ 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2280" y="-7632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ذي أ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وف يأ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عل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قدّس ذا الجسد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ه يحلّ للمد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عرفت بأن قد تعثر در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َ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خبر فمي بمجدك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رتّلَ فمي تسبيحَ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ِ والابن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35280" y="1667880"/>
            <a:ext cx="579600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إذهبوا في الأرض كل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-4848480"/>
            <a:ext cx="9144000" cy="165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ُضئ نورُكم للناس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مجّدوا أباكُمُ الذ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-3634920"/>
            <a:ext cx="9144000" cy="14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يكونَّنَ عليكم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حدٍ دينٌ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اّ حُبُّ بعضِكُم لبعض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295200"/>
            <a:ext cx="9144000" cy="10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هبتُ الطريقَ أسائلُ عن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بحيرةِ ضعفي وأوهام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الخليقةَ تُنشِدُ لحن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لقلبي فتنعش إيمان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َلَت لي الإقامة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اخلَ بيت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</a:t>
            </a:r>
            <a:r>
              <a:rPr b="1" lang="ar-LB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8568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شجاني أنينُ اليتيم يضيعُ بصخبِ الحياة ولا من يجيب رأيت عيونَ الشريدِ تتيهُ وشمسُ المحبةِ عنهُ تغيب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أشرِقْ عليّ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أنوارِ وجهِ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8568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غبت عنِّي شردتُ بذاتي غرقتُ بحزني دهاني الضجر وإن كنت فيَّ حييتُ فرحتُ نثرتُ الطيوبَ فرشتُ الزهر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الحياة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بقرب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4000" cy="13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هَبْ من حنانِكَ قطر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يتحوَّلُ القفر وعود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أو أعطي عيني دمع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في حوضها طفلاً أعود.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عمقِ آثامي دع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نصِت إلـى صوتِ دُع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غيرَ وجهِك ما رج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لقاهُ مأدبةُ رجا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شغل مواه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قدّساً عواطف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مجدِ من أحبّ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522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إذا استبدَّ بيَ الخج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 أبكمَ العارُ ف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بضاتُ حبِّكَ فلْتزَ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تى النهايةِ في دم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يا أبانا لس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أدر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بانا لستُ أد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َ كان عمري ي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ونَ أن أدركَ أ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أب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ي الآن ابن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ترعاني بحبِّ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لن أخافَ أبداً لأنّ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مسك يمين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أسبِّح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هتفُ 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أب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لك ل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مت مر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مت مريم بنتُ دا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ذاء الع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ندب إبنَها الـمصلو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أيدي الجن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محُ الحزنِ غائص في نفس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ألَـمِهِ غابت عن حسِّ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ّ فاقتِ الوال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احت آه يا ولدا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بيبي حبي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خاط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أراك عري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دبَك يا إ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جاعك حرقت اكب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آلامك خرقت فؤ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تحيا والد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بعدَ مو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زّ أم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ثمرثها الفر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حيد أبي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ورته الـمج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فتراقك كسكين جرح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عذابك كحربة طعن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ح لي أموت قب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ظر احوال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رة احش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حال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ؤك ت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لضربات بك حال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رثي لحالي من جر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مزج دمائي بدم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لوبٌ في الص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مُّك تزيد في النح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كلو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جسمك الط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بدلت حُس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مالك الز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هاءُ وجهك تغيّر بالإصفر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وعك تذرف كالأمط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سراتك أذاب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ذاباتك أوهت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تَ الآبِ الأكر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روس الرو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قدوسِ الأعظ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شركينا بآلام فاد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زيّنينا بنعمة بار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نخدمَكِ على الدوا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دى الساعاتِ والأيام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كرّساً لمجد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عطش الأرو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رب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ينك تحم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غنينا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نيم الأنه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لحنك نغم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شراق الأنو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وجهك بسم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هدوء الهياك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ضحيح الـمعامل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ك يحي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مرك يرو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عط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ك يدعو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فوك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شكراً يا يسوع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219320" y="1600200"/>
            <a:ext cx="64767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إلى الله صو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أَصرخ إل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صيح ل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دي في الليل انبسطت ولم تكل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د أبت نفسي أن تتعزى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الـماضي فأَقلقُ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امل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غشى على روح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كّرتُ فـي الأيام القديمة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سنين الدهرية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ترنيمي في الل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أملُ بقلبي وروحي يبحث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ى الدهور يقصي السّيد؟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يعود يرضى من بع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على الدوام انقضت رحمته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نقطعت كلمت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جيل فج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رى نسيَ الله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 حبس على الغضب أحشاءه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ريم البكر فق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676520" y="2962440"/>
            <a:ext cx="5867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ريمُ البكرُ فقت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شمسَ والقمر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كلَّ نجمٍ بأفلاك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ماءِ سر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9:03:08Z</dcterms:created>
  <dc:creator>-</dc:creator>
  <dc:description/>
  <dc:language>en-US</dc:language>
  <cp:lastModifiedBy>-</cp:lastModifiedBy>
  <dcterms:modified xsi:type="dcterms:W3CDTF">2003-01-07T14:49:30Z</dcterms:modified>
  <cp:revision>62</cp:revision>
  <dc:subject>Chants religieux</dc:subject>
  <dc:title>PowerPoint Presentation</dc:title>
</cp:coreProperties>
</file>